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8C526-71D3-4F1D-91F0-F90CB4A20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5F0F-4D84-455A-A911-6AA39FDAE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5F0B-29D3-4386-A588-B52A5C475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64F63-7F6D-44EA-A65A-5F11BB9B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5D7E-EC19-4E31-BE70-43F0D0761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3EF9-AF45-4A91-B1C6-16CE13946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1BC3-E9F7-4D47-8AF4-7334277E5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465-D4DA-4772-83B9-BE422EC3C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3F90-58A3-4653-A280-397A1368C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96C-1C69-4C29-B5A2-7E2DFF1C1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202F-0D96-4781-99DB-D0730AC1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B81BA-FD8D-4A18-8314-1E2C2A06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BCD4C-E90B-42CB-81EC-1ABDD71052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280" y="765000"/>
            <a:ext cx="6870600" cy="156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FORMACIÓN DEL PRETÉRITO IMPERFECTO 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 INDICATIVO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24000" y="2923920"/>
            <a:ext cx="8208720" cy="360360"/>
          </a:xfrm>
          <a:prstGeom prst="rect">
            <a:avLst/>
          </a:prstGeom>
          <a:solidFill>
            <a:srgbClr val="6600cc">
              <a:alpha val="28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AÍZ + </a:t>
            </a:r>
            <a:r>
              <a:rPr b="1" lang="en-US" sz="1400" spc="-1" strike="noStrike">
                <a:solidFill>
                  <a:srgbClr val="bbe0e3"/>
                </a:solidFill>
                <a:latin typeface="Arial"/>
              </a:rPr>
              <a:t>CARACTERÍSTICA TEMPORAL-MODAL + </a:t>
            </a:r>
            <a:r>
              <a:rPr b="1" lang="en-US" sz="1400" spc="-1" strike="noStrike">
                <a:solidFill>
                  <a:srgbClr val="009900"/>
                </a:solidFill>
                <a:latin typeface="Arial"/>
              </a:rPr>
              <a:t>DESINENCIAS 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40360" y="3429000"/>
            <a:ext cx="3887640" cy="825480"/>
          </a:xfrm>
          <a:prstGeom prst="rect">
            <a:avLst/>
          </a:prstGeom>
          <a:solidFill>
            <a:srgbClr val="99cc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MA    + 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BA +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MONE  +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BA +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  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3429000"/>
            <a:ext cx="394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Comic Sans MS"/>
              </a:rPr>
              <a:t>1ª Y 2ª CONJUGACIÓ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51560" y="5084640"/>
            <a:ext cx="276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66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00cc"/>
                </a:solidFill>
                <a:uFillTx/>
                <a:latin typeface="Comic Sans MS"/>
              </a:rPr>
              <a:t>3ª Y 4ª CONJUGACIÓN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40360" y="4797360"/>
            <a:ext cx="3816360" cy="1557000"/>
          </a:xfrm>
          <a:prstGeom prst="rect">
            <a:avLst/>
          </a:prstGeom>
          <a:solidFill>
            <a:srgbClr val="99cc00">
              <a:alpha val="4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DUC    + 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EBA +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CAPI   + 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EBA + 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Comic Sans MS"/>
              </a:rPr>
              <a:t>AUDI  + </a:t>
            </a:r>
            <a:r>
              <a:rPr b="0" lang="en-US" sz="2400" spc="-1" strike="noStrike">
                <a:solidFill>
                  <a:srgbClr val="bbe0e3"/>
                </a:solidFill>
                <a:latin typeface="Comic Sans MS"/>
              </a:rPr>
              <a:t>EBA + </a:t>
            </a:r>
            <a:r>
              <a:rPr b="0" lang="en-US" sz="2400" spc="-1" strike="noStrike">
                <a:solidFill>
                  <a:srgbClr val="009900"/>
                </a:solidFill>
                <a:latin typeface="Comic Sans MS"/>
              </a:rPr>
              <a:t>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55840" y="2065320"/>
          <a:ext cx="5852520" cy="3614400"/>
        </p:xfrm>
        <a:graphic>
          <a:graphicData uri="http://schemas.openxmlformats.org/drawingml/2006/table">
            <a:tbl>
              <a:tblPr/>
              <a:tblGrid>
                <a:gridCol w="2844720"/>
                <a:gridCol w="3007800"/>
              </a:tblGrid>
              <a:tr h="84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2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77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NSEJA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475920"/>
            <a:ext cx="687096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PRETÉRITO IMPERFECTO </a:t>
            </a:r>
            <a:br>
              <a:rPr sz="2800"/>
            </a:b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DE INDICATIVO</a:t>
            </a: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ETÉRITO IMPERFECTO 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 INDICATIVO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611280" y="2492280"/>
          <a:ext cx="7696080" cy="3167280"/>
        </p:xfrm>
        <a:graphic>
          <a:graphicData uri="http://schemas.openxmlformats.org/drawingml/2006/table">
            <a:tbl>
              <a:tblPr/>
              <a:tblGrid>
                <a:gridCol w="2406600"/>
                <a:gridCol w="2886120"/>
                <a:gridCol w="2403360"/>
              </a:tblGrid>
              <a:tr h="564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ª conjugación  mix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4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61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Í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bbe0e3"/>
                          </a:solidFill>
                          <a:latin typeface="Arial"/>
                        </a:rPr>
                        <a:t>EB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Í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6600cc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1521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9144000" cy="6857640"/>
        </p:xfrm>
        <a:graphic>
          <a:graphicData uri="http://schemas.openxmlformats.org/drawingml/2006/table">
            <a:tbl>
              <a:tblPr/>
              <a:tblGrid>
                <a:gridCol w="1116000"/>
                <a:gridCol w="1932120"/>
                <a:gridCol w="1523880"/>
                <a:gridCol w="1523880"/>
                <a:gridCol w="1524240"/>
                <a:gridCol w="1523880"/>
              </a:tblGrid>
              <a:tr h="83736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TÉRITO IMPERF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201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ª Conj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ª Conj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ª Conj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ª Conj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j. mix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125244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(yo amaba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7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93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  <a:tr h="768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ma-b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one-b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rege-b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audie-b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6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apie-b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111111"/>
                      </a:solidFill>
                    </a:lnL>
                    <a:lnR w="4320">
                      <a:solidFill>
                        <a:srgbClr val="111111"/>
                      </a:solidFill>
                    </a:lnR>
                    <a:lnT w="4320">
                      <a:solidFill>
                        <a:srgbClr val="111111"/>
                      </a:solidFill>
                    </a:lnT>
                    <a:lnB w="4320">
                      <a:solidFill>
                        <a:srgbClr val="111111"/>
                      </a:solidFill>
                    </a:lnB>
                    <a:solidFill>
                      <a:srgbClr val="ffcccc"/>
                    </a:solidFill>
                  </a:tcPr>
                </a:tc>
              </a:tr>
            </a:tbl>
          </a:graphicData>
        </a:graphic>
      </p:graphicFrame>
      <p:sp>
        <p:nvSpPr>
          <p:cNvPr id="53" name=""/>
          <p:cNvSpPr/>
          <p:nvPr/>
        </p:nvSpPr>
        <p:spPr>
          <a:xfrm>
            <a:off x="4449600" y="4756680"/>
            <a:ext cx="24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ETÉRITO IMPERFECTO </a:t>
            </a:r>
            <a:br>
              <a:rPr sz="3200"/>
            </a:b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DE INDICATIVO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2987640" y="2421000"/>
          <a:ext cx="2406600" cy="3098880"/>
        </p:xfrm>
        <a:graphic>
          <a:graphicData uri="http://schemas.openxmlformats.org/drawingml/2006/table">
            <a:tbl>
              <a:tblPr/>
              <a:tblGrid>
                <a:gridCol w="2406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VERBO S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3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M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T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R-A-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1:13:56Z</dcterms:created>
  <dc:creator>IES</dc:creator>
  <dc:description/>
  <dc:language>en-US</dc:language>
  <cp:lastModifiedBy>IES</cp:lastModifiedBy>
  <dcterms:modified xsi:type="dcterms:W3CDTF">2010-05-18T11:25:09Z</dcterms:modified>
  <cp:revision>3</cp:revision>
  <dc:subject/>
  <dc:title>Diapositiva 1</dc:title>
</cp:coreProperties>
</file>